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48B5-BF71-431E-AB48-DC3E076CB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1371-332C-44F6-930D-11E1BB5388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561D-D0B4-4F55-8039-06BD4427D6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62AE-9FD5-43E5-ACF2-4C6A98883F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BB34-74CD-4A11-8964-E1B3E83CA2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A24A-11A2-4E99-82C9-A6D4028E4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6722-3E05-4333-A213-C8BD14CD9E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A0BB-CFAF-492B-B4BE-A76D95AF19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0C7-C8BF-43BF-966D-2D42CC03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1A4-CA86-4DCF-B53B-16262B9E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45C-76C8-4932-8769-0C165532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7E7-887A-4C4E-8105-99BD8958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FEE-931C-491E-9204-0C8B19C6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03B-6A52-40D8-A8EE-84851248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49B-647C-47A3-8249-49E1362A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892-C206-415B-9270-73B281E6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73E-388F-4FCD-BAAD-38145F2B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8C5-391F-4693-93B9-B971B4B1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B64-DE39-4929-8065-FF984767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AFE-A11A-4A4F-BDAA-0C236F47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80BA-010E-4EFC-BF1C-C51C13240CC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riting a Friendly Lett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derstanding the five pa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25ff"/>
                </a:solidFill>
                <a:latin typeface="Comic Sans MS"/>
              </a:rPr>
              <a:t>Five Parts of a Friendly Lett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omic Sans MS"/>
              </a:rPr>
              <a:t>Head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Greet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omic Sans MS"/>
              </a:rPr>
              <a:t>Clos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25ff"/>
                </a:solidFill>
                <a:latin typeface="Comic Sans MS"/>
              </a:rPr>
              <a:t>Signa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625ff"/>
                </a:solidFill>
                <a:latin typeface="Comic Sans MS"/>
              </a:rPr>
              <a:t>The heading includes the </a:t>
            </a:r>
            <a:r>
              <a:rPr b="0" lang="en-US" sz="2800" spc="-1" strike="noStrike" u="sng">
                <a:solidFill>
                  <a:srgbClr val="c625ff"/>
                </a:solidFill>
                <a:uFillTx/>
                <a:latin typeface="Comic Sans MS"/>
              </a:rPr>
              <a:t>writer’s</a:t>
            </a:r>
            <a:r>
              <a:rPr b="0" lang="en-US" sz="2800" spc="-1" strike="noStrike">
                <a:solidFill>
                  <a:srgbClr val="c625ff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c625ff"/>
                </a:solidFill>
                <a:uFillTx/>
                <a:latin typeface="Comic Sans MS"/>
              </a:rPr>
              <a:t>address</a:t>
            </a:r>
            <a:r>
              <a:rPr b="0" lang="en-US" sz="2800" spc="-1" strike="noStrike">
                <a:solidFill>
                  <a:srgbClr val="c625ff"/>
                </a:solidFill>
                <a:latin typeface="Comic Sans MS"/>
              </a:rPr>
              <a:t> and the </a:t>
            </a:r>
            <a:r>
              <a:rPr b="0" lang="en-US" sz="2800" spc="-1" strike="noStrike" u="sng">
                <a:solidFill>
                  <a:srgbClr val="c625ff"/>
                </a:solidFill>
                <a:uFillTx/>
                <a:latin typeface="Comic Sans MS"/>
              </a:rPr>
              <a:t>date</a:t>
            </a:r>
            <a:r>
              <a:rPr b="0" lang="en-US" sz="2800" spc="-1" strike="noStrike">
                <a:solidFill>
                  <a:srgbClr val="c625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120 Tulip Stre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San Diego, CA 9210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80ff00"/>
                </a:solidFill>
                <a:latin typeface="Comic Sans MS"/>
              </a:rPr>
              <a:t>December  5, 200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ee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omic Sans MS"/>
              </a:rPr>
              <a:t>The greeting in a letter is the writer’s way of saying “hello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ar Grandpa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d"/>
                </a:solidFill>
                <a:latin typeface="Comic Sans MS"/>
              </a:rPr>
              <a:t>The body of the letter contains the message the writer wants to se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 am writing to thank you for my birthday present.  I love my new paint set.  When I grow up I want to be an artis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os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he closing in a letter is the writer’s way of saying “goodbye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80ff00"/>
                </a:solidFill>
                <a:latin typeface="Comic Sans MS"/>
              </a:rPr>
              <a:t>Love always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gn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omic Sans MS"/>
              </a:rPr>
              <a:t>The final part of a letter is the signature. The writer’s name is written in cursive as the signatu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625ff"/>
                </a:solidFill>
                <a:latin typeface="Lucida Handwriting"/>
              </a:rPr>
              <a:t>Harrs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20:08:40Z</dcterms:created>
  <dc:creator>SDCS SDCS</dc:creator>
  <dc:description/>
  <dc:language>en-US</dc:language>
  <cp:lastModifiedBy>teacher</cp:lastModifiedBy>
  <dcterms:modified xsi:type="dcterms:W3CDTF">2010-11-06T19:42:11Z</dcterms:modified>
  <cp:revision>8</cp:revision>
  <dc:subject/>
  <dc:title>Writing a Friendly Letter</dc:title>
</cp:coreProperties>
</file>